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412-DF49-4148-9772-19ABD5C7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878-B6F3-40F6-A911-FF8AD2D6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91A-E1E6-47B9-8FAE-F54861E9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C11-4B8A-480D-8169-3EA25C43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A7C-D47D-467A-850C-5F5EAF91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5CD-A0E5-4E14-9486-24E5989C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CA4-CDE7-49CF-AADB-2DDE1F0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B38-9B9C-4E3F-A472-F090A1C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BDA-F609-44E4-9CCC-64F63933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7FC-BBE8-4ACA-8688-7030C97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868-54AF-45FA-897A-AC29EB9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3ED-FE3D-49C5-8CC9-1C6B6C8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A91F-C7F3-4681-A9C5-87D6B8E2B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في هذا العيد  المجدُ قد تعالى والنورُ قد تَلالا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جاء المسيح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هذا المسيحُ المُنتَظَر  مَن حُبُّهُ عمَّ أفرادَ البَشَرْقد سَرّنا هذا الخَبَر   بُشرى لنا فالقلبُ أضحى مُست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17" descr=""/>
          <p:cNvPicPr/>
          <p:nvPr/>
        </p:nvPicPr>
        <p:blipFill>
          <a:blip r:embed="rId1"/>
          <a:stretch/>
        </p:blipFill>
        <p:spPr>
          <a:xfrm>
            <a:off x="-54000" y="0"/>
            <a:ext cx="5540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هذا العيد ملائكُ السَّماءِ  في قُبَّةِ الفضاء قد أَنشد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له مجدٌ في العُلى  والسِّلمُ في الأَرضين قد عمَّ المَ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حَقُّ أن نُهَلِّلا  مع زُمرةِ الأملاكِ فيما مجَّدو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457200"/>
            <a:ext cx="44197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 هذا العيد قد تمَّتِ الوعودُ وجاءَنا الموعودُ فادي العب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ُعطي الوَرى روحَ السلام  والحبَّ والّلطفَ الذي يُحي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َنفي من الأرضِ الظَّلام إذ نورُهُ يمتَدُّ في كلِّ البلا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0"/>
            <a:ext cx="358128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هذا العيد تبتهجُ القلوبُ وتفرحُ الشعوبُ بالمُفْتَ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أيها الطفلُ الحبيبْ  نفسي بِمَرأى وجهِكَ الزَّاهي تط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ن ساكنَ القلبَ الرَّحيبْ  كي أُولَدَ اليومَ بهذا المَولِ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للويا جاء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0:23:03Z</dcterms:created>
  <dc:creator>SUZANNE.MD</dc:creator>
  <dc:description/>
  <dc:language>en-US</dc:language>
  <cp:lastModifiedBy>USER</cp:lastModifiedBy>
  <dcterms:modified xsi:type="dcterms:W3CDTF">2002-12-23T19:55:57Z</dcterms:modified>
  <cp:revision>2</cp:revision>
  <dc:subject/>
  <dc:title>PowerPoint Presentation</dc:title>
</cp:coreProperties>
</file>